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3AC-9A18-49FB-9F86-10B61392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1DB-6D86-46B9-93C1-BEA1D329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889-0A1F-4596-B1EB-778962F8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F9E-05A9-4323-B43F-EA8CF165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C71-7E5E-4476-B077-EA0D1898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B0B-733A-465C-911A-C1B98408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D7E-6CB2-4A0C-B2CE-5FD66E50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114-84F0-4831-B27E-864DB6D9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1E8-23E1-44A4-A834-A0EAFF11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B8F-AC69-4A2B-ADD7-6076933F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474-D6E6-4DC5-95A1-15A6D759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0BF-BC1D-4C26-BDD0-2BB23DC0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5978-6368-4DCF-847E-BF07BC21C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7440" y="738000"/>
            <a:ext cx="85676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6600"/>
                </a:solidFill>
                <a:latin typeface="Arial"/>
              </a:rPr>
              <a:t>PowerTeacher Training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de6600"/>
                </a:solidFill>
                <a:latin typeface="Arial"/>
              </a:rPr>
              <a:t>For Classroom Teachers who Take Attendance and/or Give Grad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ccessing PowerTeacher Hel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2120" y="2209680"/>
            <a:ext cx="9779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44444"/>
                </a:solidFill>
                <a:latin typeface="Arial"/>
              </a:rPr>
              <a:t>To access the PowerTeacher Online Help, click the Help icon, which looks like a question mark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186760" y="914400"/>
            <a:ext cx="105876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Daily Bulletin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03040" y="820440"/>
            <a:ext cx="927288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cannot create entries for the daily bulleti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can read the notices and send a message to the person in charge of maintaining the bulleti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How to View the Daily Bulleti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On the PowerTeacher main menu, click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Daily Bulletin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. The Daily Bulletin page displays today's announcements and links to previous bulleti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date links at the bottom of the page to view that day's bulleti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e-mail address at the bottom of the page to send a message to the person who issues the announcements. Depending on your default e-mail application, an e-mail form appea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omplete the e-mail messa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Send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taff Directory and Meals Tab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e will NOT use these functions at this tim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ontinue to contact people from your building using the CMCSS email system.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Personaliz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6160" y="1066320"/>
            <a:ext cx="97790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hange Password Feature -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DO NOT CHANGE PASS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Default Student Screen Feature - A teacher can choose which student screen appears first when the BACKPACK icon is clicked. Other screens can then be selected from the Select Screens dropdown menu at the top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Display Section Number - Choose Yes/No to show or hide section numbers on the Teacher's Homepage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chool/Term Selecto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22120" y="11430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he DEFAULT school is the school to which a teacher is assigned. You will need not to change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he terms will change automatically as the year progresses. You should glance at the 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term selector 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each time changes are made to ensure the correct term is display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9920" y="3048120"/>
            <a:ext cx="85597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6600"/>
                </a:solidFill>
                <a:latin typeface="Arial"/>
              </a:rPr>
              <a:t>PowerTeacher GradeBook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714320" y="4572000"/>
            <a:ext cx="6730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62af"/>
                </a:solidFill>
                <a:latin typeface="Arial"/>
              </a:rPr>
              <a:t>Teacher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Quick Entry Ti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44444"/>
                </a:solidFill>
                <a:latin typeface="Arial"/>
              </a:rPr>
              <a:t>Select </a:t>
            </a:r>
            <a:r>
              <a:rPr b="1" lang="en-US" sz="3700" spc="-1" strike="noStrike">
                <a:solidFill>
                  <a:srgbClr val="444444"/>
                </a:solidFill>
                <a:latin typeface="Arial"/>
              </a:rPr>
              <a:t>Quick Entry Tips </a:t>
            </a:r>
            <a:r>
              <a:rPr b="0" lang="en-US" sz="3700" spc="-1" strike="noStrike">
                <a:solidFill>
                  <a:srgbClr val="444444"/>
                </a:solidFill>
                <a:latin typeface="Arial"/>
              </a:rPr>
              <a:t>on the PowerTeacher gradebook just above the Launch Gradebook button for keyboard shortcuts. 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Opening GradeBook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22120" y="144792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s must have Java 1.5 lo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lick the LAUNCH GRADEBOOK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*You may get one or more dialog boxes… Click OK or Trust. (If you click the option to Always Trust it will stop some of the windows from appea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You should then see your Class Grad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 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GradeBook Start P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0080" y="1828800"/>
            <a:ext cx="4699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Left Marg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asses Selection B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ass Li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Group Li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op Menu Bar (Tab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coreshe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ssig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Grade Set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ass Inf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70400" y="1828800"/>
            <a:ext cx="469908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lection Window - Shows the "Page" associated with each t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owerTeacher Menu Bar-Very Top -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owerTeac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Ed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Vie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ool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indo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Hel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Up the GradeBook                1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6160" y="144792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*PowerTeacher Gradebook is configured for immediate use.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next several slides cover what you will need to set up once…at the start of each ye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*You will configure your actual gradebook with your Point of Contact during the first days in your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Test Server Login - For Training Only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2120" y="152388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t is best to use Firefox or Safar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est Server Address:</a:t>
            </a:r>
            <a:br>
              <a:rPr sz="3600"/>
            </a:b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http://pstest.cmcss.net/teacher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his is a dummy account login information to be provided on training day for use during training on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Up the GradeBook                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e will review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Catego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Final Grade Weigh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Final Grad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Grou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GradeBook Preferen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Viewing Gradescales - these are set up by the distri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Editing Class Info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reating Assig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ublishing Assig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Output Options- Scoresheets, Statistics, and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arents' and/or Students' View of PowerSchool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Creating Categor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6160" y="121932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On the gradebook menu bar, choose </a:t>
            </a:r>
            <a:r>
              <a:rPr b="1" lang="en-US" sz="4000" spc="-1" strike="noStrike">
                <a:solidFill>
                  <a:srgbClr val="444444"/>
                </a:solidFill>
                <a:latin typeface="Arial"/>
              </a:rPr>
              <a:t>Tools &gt; Categories</a:t>
            </a: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Click the </a:t>
            </a:r>
            <a:r>
              <a:rPr b="1" lang="en-US" sz="4000" spc="-1" strike="noStrike">
                <a:solidFill>
                  <a:srgbClr val="444444"/>
                </a:solidFill>
                <a:latin typeface="Arial"/>
              </a:rPr>
              <a:t>Plus </a:t>
            </a: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(+) button in the lower left corner of the window. Enter your inform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Click </a:t>
            </a:r>
            <a:r>
              <a:rPr b="1" lang="en-US" sz="4000" spc="-1" strike="noStrike">
                <a:solidFill>
                  <a:srgbClr val="444444"/>
                </a:solidFill>
                <a:latin typeface="Arial"/>
              </a:rPr>
              <a:t>Close</a:t>
            </a: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. (Categories will be save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Creating Categor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880" y="1074240"/>
            <a:ext cx="9775800" cy="58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CAN set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y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clude in Final Grade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***Important**** If this box is not checked, it will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 coun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scriptions- Category descriptions can be viewed by administrators and par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Up Final Grade Weigh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6160" y="1360080"/>
            <a:ext cx="976464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determine how 9 weeks grades are calculated - Total Points or Category Weights. Your Point of Contact will help you set this up in a meeting at your sch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Option 1 -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Total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Option 2 -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Category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rm Weights for Semesters 1 and 2 will be provided for you by your Point of Contact during gradebook setup. (Standard District Set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Final Grade Setu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his can be set by clicking on the Grade Setup Tab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his setup determines how final grades are calculated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*The final grade is calculated continuously so you always know a students current final grad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 Choose the desired reporting term in the upper pa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Choose the desired calculation method in the lower pa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3. ****You can also decide here if any low scores are dropp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Up Student Groups                1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6160" y="144792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DEFAULT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 group is th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ENTIRE CLASS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 SET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– is a Collection of Groups.  You must create a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SET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 before you can mak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GROUPS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-SET might be Reading or Math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A GROUP - a small collection of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-like Reading Group 1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 </a:t>
            </a: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Creating a Set and Grou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STUDENTS tab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PLUS button (+) in the lower left hand corn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It will automatically create Untitled Set 1 and Untitled Group 1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ouble Click on Untitled Set 1 and enter a name for the set, such as Reading. Press the ENTER ke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ouble Click on Untitled Group 1 and enter a name for the Group, such as Early Readers. Press the ENTER ke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If you need to add more Groups under a Set click the PLUS (+) and choose Add Group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epeat steps 2-5 until all Sets and Groups are comple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ing Students to a Grou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3720" y="1015560"/>
            <a:ext cx="97758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STUDENTS tab and Click on a student's na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rag the name of the student to the appropriate grou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can add student to all of the group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***You CANNOT add a student to more than one GROUP in the same SET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ELETING STUDENTS FROM A GRO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 Click a student's name in the group list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Click the minus (-) button at the bottom lef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MOVING STUDENTS BETWEEN GROUPS WITHIN A S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 Click the arrow to the left of the group name to op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Click the name of the student you want to move and drag it to the folder for one of the other groups in the se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PT GradeBook Preferences</a:t>
            </a:r>
            <a:br>
              <a:rPr sz="4300"/>
            </a:b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to set how grades are calculated and stored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2800" y="2168640"/>
            <a:ext cx="97758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POWERTEACHER GRADEBOOK menu (MAC) or the TOOLS menu (PC) at the top and select PREFERENC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oose options to meet school or district polic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oos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ounded - EX. 89.75 would be rounded to 90%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ecimal Places - Select how many decimal pla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Viewing Gradescal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4444"/>
                </a:solidFill>
                <a:latin typeface="Arial"/>
              </a:rPr>
              <a:t>****The gradescale is determined by the district and will be loaded in the GradeBook for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o View the Gradesc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lick the Tools menu, and click Grades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he DEFAULT gradescale will be viewable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5800" y="609120"/>
            <a:ext cx="9775800" cy="19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Logging into PowerTeacher- For Actual Use of Gradebook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1880" y="2057040"/>
            <a:ext cx="97758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44444"/>
                </a:solidFill>
                <a:latin typeface="Arial"/>
              </a:rPr>
              <a:t>User Name: Your MUNIS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44444"/>
                </a:solidFill>
                <a:latin typeface="Arial"/>
              </a:rPr>
              <a:t>Password: FL****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4444"/>
                </a:solidFill>
                <a:latin typeface="Arial"/>
              </a:rPr>
              <a:t>(firstlastinital and last 4 of your SSN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4444"/>
                </a:solidFill>
                <a:latin typeface="Arial"/>
              </a:rPr>
              <a:t>Never SHARE your User Name or PASSWORD with ANYONE.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444444"/>
                </a:solidFill>
                <a:uFillTx/>
                <a:latin typeface="Arial"/>
              </a:rPr>
              <a:t>DO NOT</a:t>
            </a:r>
            <a:r>
              <a:rPr b="1" lang="en-US" sz="3700" spc="-1" strike="noStrike">
                <a:solidFill>
                  <a:srgbClr val="444444"/>
                </a:solidFill>
                <a:latin typeface="Arial"/>
              </a:rPr>
              <a:t> change your password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Editing and Viewing Class Inf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1. Choose a class from the Classes Pane (Top Lef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2. Click the CLASS INFO T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3. You can add a description of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ype in the description b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Add a web link if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****Remember that descriptions can be viewed by the administrators, students, and parents.  This can be very useful, but BE CAREFUL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6040" y="1723680"/>
            <a:ext cx="85676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6600"/>
                </a:solidFill>
                <a:latin typeface="Arial"/>
              </a:rPr>
              <a:t>Adding Assign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69680" y="3047760"/>
            <a:ext cx="67230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62af"/>
                </a:solidFill>
                <a:latin typeface="Arial"/>
              </a:rPr>
              <a:t>Most of the GradeBook items covered prior to this are </a:t>
            </a:r>
            <a:r>
              <a:rPr b="1" lang="en-US" sz="3200" spc="-1" strike="noStrike">
                <a:solidFill>
                  <a:srgbClr val="3b62af"/>
                </a:solidFill>
                <a:latin typeface="Arial"/>
              </a:rPr>
              <a:t>one-time set-up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b62af"/>
                </a:solidFill>
                <a:latin typeface="Arial"/>
              </a:rPr>
              <a:t>The following slides cover the </a:t>
            </a:r>
            <a:r>
              <a:rPr b="1" lang="en-US" sz="3200" spc="-1" strike="noStrike">
                <a:solidFill>
                  <a:srgbClr val="3b62af"/>
                </a:solidFill>
                <a:latin typeface="Arial"/>
              </a:rPr>
              <a:t>daily</a:t>
            </a:r>
            <a:r>
              <a:rPr b="0" lang="en-US" sz="3200" spc="-1" strike="noStrike">
                <a:solidFill>
                  <a:srgbClr val="3b62af"/>
                </a:solidFill>
                <a:latin typeface="Arial"/>
              </a:rPr>
              <a:t> adding of assignments and grades, and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District Grade Publishing Poli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  All graded assignments MUST be published!</a:t>
            </a: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By Midnight every Monday, all assignments from the previous week MUST be published!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Best Practice:</a:t>
            </a: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  Timely Feedback</a:t>
            </a: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ay current in grading, recording, and publishing assignments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*Parents will be told to check on Tuesday mornings for previous week's grades in order to provide guidance and intervention for their childr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ing Assignm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6160" y="11430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Add Assignments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1. Select a class, then click the 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Assignments 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or 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Scoresheet 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2. Click the 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Plus (+) 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button. 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inform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3. Click 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Save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4. Click the 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Publish T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5. Click Drop Down to set date to be publis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Immediately is the defau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NEVER is not an op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ing Assignments - More Inf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0080" y="1828800"/>
            <a:ext cx="4699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Name the assign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ange the abbreviation name if desi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lect the category to which the assignment belo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Score type and Points Possible are preset based on the category information you cho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70400" y="1828800"/>
            <a:ext cx="469908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eight- you can assign a weight to an assignment.  *Remember that you have already set weights for categori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ue Date - The default due date is today's d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eck the box to "include in final grade.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 the assignment description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Deleting an Assign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6160" y="121932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Highlight the assignment by clicking on its h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Click the Minus (-) button next to the assignment header ar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You will get an "Are You Sure?" dialog box. Click dele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*A deleted assignment CANNOT be retrieved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What You Will See on the Scoreshe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hen you have chose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 Class (Top Lef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 Group (Middle Lef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coresheet T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lter b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eporting Term (be carefu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ategory (Al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s (Activ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will see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List of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ssig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ssignment Sco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urrent Final Grad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ing Grades to Assignm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53720" y="1131840"/>
            <a:ext cx="97758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on the class or gro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on the Scoresheet T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oose the Reporting Term and Categ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on the Assign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dd scores for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Sa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***Once you save, the current Final Grade will upda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OPY ASSIGNMENTS, DELETE ASSIGNMENTS, FILL SCORES, AND/OR CLEAR SCORES 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on the Assignment title at the top of the colum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ight click or Control Cli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lect desired a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Publishing Assignments - More Inf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91880" y="1252440"/>
            <a:ext cx="97758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Select a class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Assignments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Select the assignment you want to publish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Publish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3. From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Publish Assignmen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pop-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menu, choose when to publish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4. If you selected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On Specific Date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, ent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he date the assignment should appear 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Date On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fiel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5. If you selected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Days Before Due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, ent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he number of days the assignment should appear prior to the date that it is due in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Days Before Due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fiel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6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ave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Filter A Scoreshe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98440" y="1142640"/>
            <a:ext cx="9485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1. Select a class, then click th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2. Choose one or more of the following fil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Filter By Reporting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Filter By Categ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Filter By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lick Tools, Select Score Insp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1. Select a class from the Classes pane, then click th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2. From any assignment field (or Final Grade field) within the Scoresheet, p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COMMAND+click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(Mac) or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right-cl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(Windows) and select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Score Inspector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The  START P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5000" y="1095120"/>
            <a:ext cx="9888480" cy="635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owerTeacher Icon - (Top Left) Click this icon anytime to return to the Start Pa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urrent Classes Window - (Midd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 Chair - Attend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he Dot - Attendance Completion Indicat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tensils - Lunch Coun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Backpack - Student Inform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rinter - Print Class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Menu - (Left Margin) - Links to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art Page, Daily Bulletin, Staff Directory, Meals, Personalize, Gradebook, and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chool/Term Selectors - (Top Midd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iece of Paper - (Top Right) - Report Que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Question Mark - (Top Right) - PowerTeacher HEL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Logout - (Top Right) -  Click to exit progr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81840" y="590400"/>
            <a:ext cx="1925640" cy="466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872560" y="4210200"/>
            <a:ext cx="1125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Open the Score Inspecto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2560" y="1145880"/>
            <a:ext cx="9775800" cy="54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Select a class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Choose one or more of the following filter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Filter By Reporting Ter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Filter By Categor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Filter By Stud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Open the Score Inspect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Select a class from the Classes pane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From any assignment field (or Final Grade field) within the Scoresheet, pre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OMMAND+click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(Mac) 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right-clic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(Windows) and select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 Inspector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Mark Assignm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Select a class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 Or, open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 Inspector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Click in the assignment column of th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student for whom you want to enter a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assignment statu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n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window, press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OMMAND+click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(Mac) 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right-click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(Windows) and select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ollected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,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Late, Exempt,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Missing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ave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n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 Inspector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window, select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ollected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,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Late, Exempt,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Missing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checkbox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lose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o sav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 a Final Grade Com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91880" y="1703520"/>
            <a:ext cx="9775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1. Open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core Inspector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and select th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final grade of the student you want t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updat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2. Manually enter final grade comments in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omment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field and/or click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om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Bank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to select one or more predefine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comments. Use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Previous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and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Nex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arrows to repeat for each student, 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applicab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3. Click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lose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to sav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Manually Override Final Grad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33280" y="1190520"/>
            <a:ext cx="975528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 Select a class from the Classes pane, then click the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Choose a term from the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Filter B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Reporting Term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op-up menu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3. Open the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Score Inspector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nd select t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nal grade of the student you want t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pdate. The final grade field appea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highligh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4. Select the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Manual Override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eckbox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Enter the new grade in the appropri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eld, and enter any comments in t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Comment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eld, if applicable. Use t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Previous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nd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Next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rrows to repeat f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each student, if applic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5. Click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Close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o sav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Reports Availab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50840" y="1066320"/>
            <a:ext cx="9918720" cy="59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The following reports are available on th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gradebook Reports tab: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Attendance Gri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ategory Tot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Final Grade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omment Verificatio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Individual Student Repor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Missing Assignment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coreshee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tud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Multi-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tudent Roster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Gradebook Hel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44"/>
                </a:solidFill>
                <a:latin typeface="Arial"/>
              </a:rPr>
              <a:t>To access the PowerTeacher gradebook Online Help,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44"/>
                </a:solidFill>
                <a:latin typeface="Arial"/>
              </a:rPr>
              <a:t>click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44444"/>
                </a:solidFill>
                <a:latin typeface="Arial"/>
              </a:rPr>
              <a:t>Help &gt; Content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44"/>
                </a:solidFill>
                <a:latin typeface="Arial"/>
              </a:rPr>
              <a:t>on the menu bar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Logou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LOGOUT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by clicking on the logout button at the top of the scre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eachers should make it a habit to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logout after entering or viewing data.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****If a teacher does not logout, private student information may be available to anyone with access to the compu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Taking Attendanc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6160" y="1523520"/>
            <a:ext cx="98503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An attendance indicator (chair) icon appears next to each class. The color of the dot indicates whether or not you've taken attendance for that clas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Click the chair icon next to the class f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which you want to take attendanc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Choose the appropriate attendance code from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urrent attendance code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popup menu.  A=Absent or T=Tard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3. Click the cell next to each student who is absent or tardy to insert the code you chose from the pop-up menu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4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ubmit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18280" y="95400"/>
            <a:ext cx="272736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ubmitting Lunch Cou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( Elementary 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Click the utensil icon next to the class for which you want to submit a lunch coun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Enter the lunch counts in the field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3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ubmit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20000" y="228600"/>
            <a:ext cx="1925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ccessing Student Inform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1. Click the backpack icon next to the class you want to view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2. Click the student’s nam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3. Choose a student page to access from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elect Screens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pop-up menu.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4. Have a look at the Select Screens you may choos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034480" y="181080"/>
            <a:ext cx="203976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lect Screens  *******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umulative Grade Informati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emograph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Meeting Attendanc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Net/Phone Access Summary - Parent and student access inf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rint a Repor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Quick Look-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che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anda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 Phot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 Log Entry - ***Do NOT use this at this tim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eacher Comment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Printing School Reports or Report Tab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5800" y="1676160"/>
            <a:ext cx="9775800" cy="54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Your school creates the reports available to you in PowerTeacher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1. Click the printer icon next to the class for which you want to print a report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2. Choose the report from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Which report would you like to print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pop-up menu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3. Choose the watermark text (optional)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4. Choose when you want PowerSchool t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prepare your report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5. Click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ubmit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815240" y="5943600"/>
            <a:ext cx="17924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